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694-A7D8-4E60-98FF-E59B8D4B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115-7840-47AD-B622-38978E3D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1F3-5D3A-409D-858B-B2688B2B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03FE-4A9E-4B94-A122-C4B1FA66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BA28-07BB-4C82-A152-CCA3AE8C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35A-7071-4557-A75F-D906887A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DBD-B353-42E0-8FE5-1CD77FA8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11D-E6B5-4658-8A82-DC6DADBB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CA2-0F4A-4DE1-BC7C-C2E4C1FF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8A9-11E5-4303-B338-E7347F79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527-C099-4472-AA6C-BED348AC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54A-BD30-45F6-9578-16BBF87C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0508-671C-4B4C-BA9E-18454669A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3500280"/>
            <a:ext cx="5651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طلبة القر بان المقدس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3280" y="4190760"/>
            <a:ext cx="58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وتَ الأنفس القدسية </a:t>
            </a:r>
            <a:br>
              <a:rPr sz="7200"/>
            </a:b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عربونَ المجد الأبد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ابنَ الله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600" y="1844640"/>
            <a:ext cx="115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زادَ الذين يموتون بالر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48000" y="549360"/>
            <a:ext cx="5796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حمل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حامل خطايا العالم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04000" y="335772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4422600"/>
            <a:ext cx="324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5430960"/>
            <a:ext cx="237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رحم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59280" y="809640"/>
            <a:ext cx="608472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ـ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4292280"/>
            <a:ext cx="723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ربنا يسو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260280"/>
            <a:ext cx="608472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ـ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8720" y="554688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554688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03280" y="3182760"/>
            <a:ext cx="5940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آب السماوي ألله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ابنَ الله مخلِّص العالم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روح القدوس ألله</a:t>
            </a:r>
            <a:br>
              <a:rPr sz="7200"/>
            </a:br>
            <a:br>
              <a:rPr sz="60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َ السماءِ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إلهاً مكنوناً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307520" y="3573360"/>
            <a:ext cx="1337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ثالوث القدوس الإله الواح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4000" y="3327120"/>
            <a:ext cx="558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حنطةَ المختاري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مراً مونِعَ العذارى</a:t>
            </a:r>
            <a:br>
              <a:rPr sz="7200"/>
            </a:b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ذبيحةً دائم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تقدمةً طاهر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روفاً بلا عيب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568800" y="2421000"/>
            <a:ext cx="125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اً دَسِماً ونعيمَ الملكو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24360" y="3254040"/>
            <a:ext cx="507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ائدة نقيّ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طعامَ الملائك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نّاً مخفيّ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ذكّرَ عجائبَ الله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اً جوهري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كلمةً متجسّداً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08000" y="3398760"/>
            <a:ext cx="5219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كلمةً حالاً في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مقدس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كأس البرك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َّ الإيما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ّاً عظيم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ذبيحةً مقدس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40000" y="2822400"/>
            <a:ext cx="493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غفرةً حقيقي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دواءَ الخطاي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آيةً عجي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ذكِّرَ آلام المسيح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عطية تام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95560" y="5695920"/>
            <a:ext cx="98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تذكارَ المحبةِ الإلهي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4000" y="3254040"/>
            <a:ext cx="558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دواءً لعدم الموت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فيضَ كثرة النعم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اً مرهوباً ومحيياً</a:t>
            </a:r>
            <a:br>
              <a:rPr sz="7200"/>
            </a:b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ذبيحةً بلا دم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وليمة ومضيفاً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736920" y="3500280"/>
            <a:ext cx="1273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اً صار جسداً بقدرة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19640" y="3213000"/>
            <a:ext cx="5543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َّ التقوى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رباطَ المح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مقرّب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حلاوةً روحي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685800" y="189000"/>
            <a:ext cx="1210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يا وليمةً حلوة تخدمها الملائك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8:32Z</dcterms:created>
  <dc:creator>Charbel Azar</dc:creator>
  <dc:description/>
  <dc:language>en-US</dc:language>
  <cp:lastModifiedBy>Charbel Azar</cp:lastModifiedBy>
  <dcterms:modified xsi:type="dcterms:W3CDTF">2002-07-29T20:51:10Z</dcterms:modified>
  <cp:revision>8</cp:revision>
  <dc:subject/>
  <dc:title>كيرياليسون، كريستياليسون، كيرياليسون  يا ربنا يسوع المسيح أنصت إلينا  إستجبنا </dc:title>
</cp:coreProperties>
</file>